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0939680"/>
            <a:ext cx="360" cy="232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6B87-5F85-4BAB-9F8B-F036CE495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EC84-6C7C-4FA0-A81F-5BEFDAA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7870-4DE9-40BF-AC1A-2C890D0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FF81-3E9B-473E-9CD3-A5D4FB218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2868-D47D-45F2-9CF1-8978E23B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4771-68D9-441B-951A-5BEFBEDB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7436-C29E-4BE6-BC7B-056790EF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9DAC-853C-4428-AC0C-890ABB67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0FB5-D282-451D-A7C2-7D3A8C34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1D1F-1CE8-47FF-9BD6-E48DE97D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6F4B-90C8-4AC2-8B7F-08D77052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4CE0-736A-4202-B31E-2A277F9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495C5-3381-45D9-A545-F1B63AE6880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I CONGRESSO EUROPEO DEGLI AGRONOM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11-12 NOVEMBRE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BRUXEL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AF 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siglio Nazionale dei Dottori Agronom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dei Dottori Forest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DIA - Confédération Européenne d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VIV - Royal Flemish Society of Engineer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Immagine 3" descr="conaf_LOGO"/>
          <p:cNvPicPr/>
          <p:nvPr/>
        </p:nvPicPr>
        <p:blipFill>
          <a:blip r:embed="rId2"/>
          <a:stretch/>
        </p:blipFill>
        <p:spPr>
          <a:xfrm>
            <a:off x="7236000" y="3517920"/>
            <a:ext cx="1258560" cy="54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archivi 01 lavori in corso\arch-x ord\2014\14 CEDIA\00 logo\cedia[1].jpg"/>
          <p:cNvPicPr/>
          <p:nvPr/>
        </p:nvPicPr>
        <p:blipFill>
          <a:blip r:embed="rId3"/>
          <a:stretch/>
        </p:blipFill>
        <p:spPr>
          <a:xfrm>
            <a:off x="7451640" y="4492800"/>
            <a:ext cx="720720" cy="66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archivi 01 lavori in corso\arch-x ord\2014\09 I Congresso Europeo\kviv_ie-net-banner-trans_0.png"/>
          <p:cNvPicPr/>
          <p:nvPr/>
        </p:nvPicPr>
        <p:blipFill>
          <a:blip r:embed="rId4"/>
          <a:srcRect l="0" t="0" r="73758" b="0"/>
          <a:stretch/>
        </p:blipFill>
        <p:spPr>
          <a:xfrm>
            <a:off x="7308720" y="5373720"/>
            <a:ext cx="11509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ation Permanente d'Italie auprès de l'Union Européen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idenza del Consiglio dell'Unione Europea (semestre itali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inistero Politiche Agricole Alimentari e Forestal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siglio agricolo dell'Unione Europea (10 - 11 novembr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ED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585e0"/>
                </a:solidFill>
                <a:latin typeface="Arial"/>
                <a:ea typeface="Arial"/>
              </a:rPr>
              <a:t>Confédération Européenne des  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European Confederation of Agronomists Associat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ndata il 23 giugno 1987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ganizzazione no–profit 13 ottobre 1996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fondatori : Germania, Francia, Ital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membri: Cipro, Danimarca, Francia, Germania, Grecia, Irlanda, Irlanda del Nord, Italia, Portogallo, Spagna , Svizzera, Regno Unito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 Partenariati Europei per l'Innovazione (PE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a direttiva qualifiche professionali e la tessera professionale europea (EPC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l Piano di Sviluppo Ru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VI Congresso Mondiale degli Agronom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EXPO201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fotografica sui paesaggi rurali tipici europe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sulla storia del paesaggio agricolo nazion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zione eccellenze agroalimentari italia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1</dc:creator>
  <dc:description/>
  <dc:language>en-US</dc:language>
  <cp:lastModifiedBy>utente1</cp:lastModifiedBy>
  <dcterms:modified xsi:type="dcterms:W3CDTF">2014-03-05T09:50:34Z</dcterms:modified>
  <cp:revision>10</cp:revision>
  <dc:subject/>
  <dc:title>Diapositiva 1</dc:title>
</cp:coreProperties>
</file>